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2429-C236-4202-B780-E7E12FEC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C28E-D2F3-49AB-BA02-CCBD8E8C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7852-2163-4613-92BB-09CD3503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C649-FDD3-489A-B514-FF24EAD0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BF79-C572-4ECD-B9D8-E048CBB6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32F7-4694-4D03-B8B6-45596D8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F528-ECE6-44AE-8DF3-E414A9A7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1F96-5D67-4728-AB6B-257E1A55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59CF-90EC-423D-B4E4-828DC2AB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CA36-127F-409B-A6B6-AB5552F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7DCB-E689-411C-80B7-DF06A3BE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D066-C5D4-4F4D-BCF1-DA7EEDB7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210C-DE4B-4539-A1BF-F70F73A2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2CC5-AA5D-4C9D-95F5-FBF79C8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665E-6312-4F7C-A08C-6D0C0708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3562-FC08-42AE-AE5F-E9270CF5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A3DC-63AE-4595-8687-267541EE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FD6A-494B-47F0-B157-396353B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696E-F5B5-43EE-A89A-792919A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D1FC-2F0C-4B49-B5C9-04610FAB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5634-FF8F-4BA5-9F01-1FCAE0E1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6C77-98BF-4220-A4E1-A91FD79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6D0F-945F-4037-8893-9F6C010F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1148-C982-4538-A0AE-1C2ED8C5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7E8-A33C-4AE8-8560-324445518DC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51D-8BB0-4B8B-86EB-4EA40788340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41084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5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 на вратата Бог сто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кръста що за нас умря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да ни събер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веде в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523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, иде 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вземе в вечния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 иде, ето и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да вземе на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наци вред около н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тази истина вестят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Ще дойде скоро славний Княз."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ла ни да блест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, иде 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вземе в вечния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 иде, ето и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да вземе на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ада на Бога, да не сп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о последния си ч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м будни и да бди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да посрещнем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, иде 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вземе в вечния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 иде, ето и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да вземе на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6-29T17:06:01Z</dcterms:modified>
  <cp:revision>62</cp:revision>
  <dc:subject/>
  <dc:title>Slide 1</dc:title>
</cp:coreProperties>
</file>